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8BA-E641-4DC5-A011-E4BC2D0E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F85-57F8-4A46-BC95-927918ED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27A-8069-4500-841E-971537B7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895-EC02-4CD3-AE31-4A5D6519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57D-17A8-4FD9-86BB-4F9995C4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079-14A0-4E6C-8D53-EF80A0D0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EF8-A9FF-4BD7-8F32-28712569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ECE-E599-4B07-8C23-85F29A22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4BA-C657-48E6-9A59-10DF6150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EBD-5DB9-46B6-A5FA-AEA8111E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F74-52B8-4BD2-8CDF-E34DA827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05F-0D67-4606-9D4B-9D9273D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DD04-9F3C-4B85-A8E2-0F7015A16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dministrator</cp:lastModifiedBy>
  <dcterms:modified xsi:type="dcterms:W3CDTF">2009-07-21T08:01:52Z</dcterms:modified>
  <cp:revision>17</cp:revision>
  <dc:subject/>
  <dc:title>Optical Illusions</dc:title>
</cp:coreProperties>
</file>