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C78-BDFD-425D-81F3-164F086F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703-DEC7-42FB-A541-19171644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516-3DAB-4085-966A-65BB9FC1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3C1-8D40-48BB-9765-BB8CAA2F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F80-6D9A-43A3-9FCA-3A24EDB2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42F-4C0D-4460-AB76-B19909E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52B-1018-424E-83F6-BC54208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7F8-A8D6-487B-8A52-263C3D46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CB1-3061-4917-BA7B-31FED406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08E-889D-4760-A8AB-2D0EFED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F9C-9136-4AA3-A560-1BB6891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6AC-F764-43AF-8A8C-9488FA8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6E5-68C9-43AD-9D48-89FF54C30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dministrator</cp:lastModifiedBy>
  <dcterms:modified xsi:type="dcterms:W3CDTF">2009-07-21T08:01:52Z</dcterms:modified>
  <cp:revision>17</cp:revision>
  <dc:subject/>
  <dc:title>Optical Illusions</dc:title>
</cp:coreProperties>
</file>