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E86-0386-4B15-926E-766FDEFB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6C3-8898-4A63-9686-39A3BC3D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1DB-989D-485F-B616-ACDF11D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F96-C1C4-40A3-9F24-29084A79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F71-BD3A-4C1C-B355-CE0566FF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60C-419D-4153-95CF-DE28FE7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92A-EE78-4360-AA5D-28467E6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9E5-2A9B-4916-B054-EF253EC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865-A770-4605-A98A-F246C175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5B9-73E3-4BDB-8CED-28D61ED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E73-0CFB-4354-B3B8-497D7F1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867-A479-413A-B73B-3C1EC5B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601-6ADB-4429-8D92-3BE6585F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dministrator</cp:lastModifiedBy>
  <dcterms:modified xsi:type="dcterms:W3CDTF">2009-07-21T08:01:52Z</dcterms:modified>
  <cp:revision>17</cp:revision>
  <dc:subject/>
  <dc:title>Optical Illusions</dc:title>
</cp:coreProperties>
</file>