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9D9-F8FC-45C0-AA0F-478FDE54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ED5-FB05-410C-94A7-11E9CD7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79F-128E-4E7F-A2F1-D565FEE4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A92-E38F-45F5-8155-6A4B3F79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90A-185B-4260-9732-E4B071A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AE2-17DA-487E-A827-891AF42D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70E-4B6A-4DC8-95E2-6FA75463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A98-B76A-4E8D-8FF8-41638F8C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5A3-919D-472C-B5BB-A772410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E16-4912-456E-9CFA-C347C8C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7E9-1784-4ABE-B53A-18FCEA7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FC9-B537-4A21-8041-30CEFF0D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F0E5-C8D7-4847-BF5D-5D0C6C6DA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dministrator</cp:lastModifiedBy>
  <dcterms:modified xsi:type="dcterms:W3CDTF">2009-07-21T08:01:52Z</dcterms:modified>
  <cp:revision>17</cp:revision>
  <dc:subject/>
  <dc:title>Optical Illusions</dc:title>
</cp:coreProperties>
</file>